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964-1D35-4589-8A74-5694328C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D1B5-685B-4B54-ACCC-34BF213C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BBE-FC28-4F5A-8A7D-3CF05769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BE9-FC41-4255-8042-9998CF5C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1CA-B933-4E0D-B653-0CB0A51B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857-BC5E-4F48-BF29-E271D421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A0A-5D12-49B9-BCE8-EFFA9A0A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9DB-2B13-433F-A707-BF008062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C91-1D81-461B-8AA8-7E85F276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AEB-15D0-43F3-9693-429067C2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A26C-1424-4A84-BDF8-17766AC8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3D1-3D6E-4724-8E17-18ADB03D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07CE-50A4-42F2-91FD-36C1AB993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missing si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rcRect l="24745" t="62298" r="61577" b="24239"/>
          <a:stretch/>
        </p:blipFill>
        <p:spPr>
          <a:xfrm>
            <a:off x="1523880" y="2590920"/>
            <a:ext cx="5324760" cy="3276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895480" y="342900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429000" y="5029200"/>
            <a:ext cx="1143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thagorean Theor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right triangle, if you have two sides you can find the missing side using the Pythagorean theor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rcRect l="8890" t="38223" r="54446" b="20892"/>
          <a:stretch/>
        </p:blipFill>
        <p:spPr>
          <a:xfrm>
            <a:off x="3200400" y="2666880"/>
            <a:ext cx="5029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rcRect l="22223" t="22223" r="23333" b="36224"/>
          <a:stretch/>
        </p:blipFill>
        <p:spPr>
          <a:xfrm>
            <a:off x="457200" y="1600200"/>
            <a:ext cx="8305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rcRect l="20556" t="39999" r="39446" b="32444"/>
          <a:stretch/>
        </p:blipFill>
        <p:spPr>
          <a:xfrm>
            <a:off x="838080" y="380880"/>
            <a:ext cx="5486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…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22640" t="18519" r="37375" b="32659"/>
          <a:stretch/>
        </p:blipFill>
        <p:spPr>
          <a:xfrm>
            <a:off x="1523880" y="1447920"/>
            <a:ext cx="601992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agorean Theorem Worksheet #2 numbers 7-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5:37:09Z</dcterms:created>
  <dc:creator>setupuser</dc:creator>
  <dc:description/>
  <dc:language>en-US</dc:language>
  <cp:lastModifiedBy>setupuser</cp:lastModifiedBy>
  <dcterms:modified xsi:type="dcterms:W3CDTF">2014-03-07T15:48:21Z</dcterms:modified>
  <cp:revision>14</cp:revision>
  <dc:subject/>
  <dc:title>Pythagorean Theorem</dc:title>
</cp:coreProperties>
</file>